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8B9B-7EF8-4A64-9A46-CA88FD1DB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rainOnline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ession we will present a brief overview of the issues associated with the adaptation and development of training materials when using pre-existing materials as the starting 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 running time is 30 minutes presentation. This can be longer or shorter, depending on whether other modules in this unit will also be run as part of the same training event.</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ep by step process for the content development/adaptation process. This process starts assuming that the training needs analysis and programme outline development have been undertaken and comple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steps above – add in any examples that you think appropriate from this workshop, participants or your experienc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y – just recap of the main points of this presentatio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outline of the issues that will be covered during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items on the list and expand any that you feel are particularly appropriate or of interest to participants. Expand issues that may have come up in discussions in previous sessions of the workshop.</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he learning objectives of this presentation/un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all participants will b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hrough the items ab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suitable content exists already – it is likely that most ICT training areas will have some materials about them online somewhere. It is just a question of find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ing the Internet is obviously a sensible place to start, but don’t ignore other sources of information fir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colleagues who may have materials in this area alread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books or materials available to you that could be of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looking online, then appropriate searching strategies and techniques should be used – if advanced searching is new to users, then you may which to cover this separately in a separate exercise. A useful tutorial on this would be: </a:t>
            </a:r>
            <a:r>
              <a:rPr b="1" lang="en-US" sz="1000" spc="-1" strike="noStrike">
                <a:solidFill>
                  <a:srgbClr val="000000"/>
                </a:solidFill>
                <a:latin typeface="Verdana"/>
              </a:rPr>
              <a:t>University of California (Berkeley) Searching Resources</a:t>
            </a:r>
            <a:r>
              <a:rPr b="0" lang="en-US" sz="1000" spc="-1" strike="noStrike">
                <a:solidFill>
                  <a:srgbClr val="000000"/>
                </a:solidFill>
                <a:latin typeface="Verdana"/>
              </a:rPr>
              <a:t>  </a:t>
            </a:r>
            <a:r>
              <a:rPr b="0" lang="en-US" sz="1000" spc="-1" strike="noStrike">
                <a:solidFill>
                  <a:srgbClr val="000000"/>
                </a:solidFill>
                <a:latin typeface="Arial"/>
              </a:rPr>
              <a:t>http://www.lib.berkeley.edu/TeachingLib/Guides/Internet/FindInfo.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through a search strategy using something like the “Analyze Your Topic” (http://www.lib.berkeley.edu/TeachingLib/Guides/Internet/form.pdf) is a very useful approach to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re are also many suitable starting places or training “information gateways” that are available online. A recommended one is obviously ItrainOnline – that these materials have been developed for or are based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trainonline.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materials have been located, then it is important to assess their suitability – not just in terms of content but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ity – they look okay but how do you know that they are correct and high quality? Subject knowledge will help, as will a methodical approach to evaluating online information – see: Evaluating Web Pages: Techniques to Apply &amp; Questions to Ask - http://www.lib.berkeley.edu/TeachingLib/Guides/Internet/Evaluat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itability – is the material and approach appropriate for your needs? How easy will it be to adapt the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 find excellent, high quality and relevant training materials, just in the subject area that meets your requirements, it is still likely that you will need to edit and adapt them in some way. In fact, it is almost essential that they be adap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 that will often need to be considered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xt – does the context of the original materials match yours? Consider cultural and gender issues. Are the target participants of the training the same? – its unlikely, so how do they diff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and design of materials – are the materials book based and need to be adapted to a presentation or participatory design format? Do the materials need to be “branded” as your organis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we MUST consider IPR issues (Intellectual Property Righ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we use these materials for our intended purpo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the author of the materials give permission for their use or adapt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we need to check appropriate use with the auth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ing off someone else’s materials as your own is unprofessional and likely to end in problems in the long ru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y important part of the adapting materials process is related to contextualisation of the materials – it is ESSENTIAL that materials be appropriate contextu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materials that are inappropriate (most often due to lack of contextualisation) can be counter productive – just as inappropriate training materials in general can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effort should be made to make the materials and training content relevant to the participants. This relates to adult learning principles – recap on the following slide. Strategies for contextualisation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ing that the terminology used is appropria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examples and exercises relevant to participants by using data and examples from their immediate context. If you are training librarians in basic computer use, make the examples related to the computers use found in libraries that the participants come from. If you are training financial administrators in MS Excel, then make the exercises mirror the real problems and applications that they will face in their work pla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ples and exercises are often the most important part of learning, so effort in contextualisation in these areas should be a high prior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ffective training of adults we need to consider basic adult learning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tailed here (above) are how adults learn best. We all have slightly different preferences that fit some of these areas and issues outlined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hich to ask participants about what they have liked so far about this workshop? Did it meet those principles outlined above? Has there been something that went very well with participants? If so then you may be able to link it to some of the principles outlined here. If something has gone badly, then you may also like to link it to a lack of connection to the principles above. Hopefully, nothing has gone too badly th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a:t>
            </a:r>
            <a:r>
              <a:rPr b="1" lang="en-US" sz="1000" spc="-1" strike="noStrike">
                <a:solidFill>
                  <a:srgbClr val="000000"/>
                </a:solidFill>
                <a:latin typeface="Arial"/>
              </a:rPr>
              <a:t>great</a:t>
            </a:r>
            <a:r>
              <a:rPr b="0" lang="en-US" sz="1000" spc="-1" strike="noStrike">
                <a:solidFill>
                  <a:srgbClr val="000000"/>
                </a:solidFill>
                <a:latin typeface="Arial"/>
              </a:rPr>
              <a:t> deal of information that could be covered on adult learning principles but this slide provides a short summary of those that are of immediate importance here. The detail isn’t important in this context, just the overview.</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ating the materials content and training design is an important part of the adaptation and development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easy to become too caught up in the content of the materials and process and to lose site of the end participants and their needs. Therefore, it is recommended that you ALWAYS run the materials passed at least one other person BEFORE they are finalised and final preparations made for their deliv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much better to discover problems with the materials before for the actual workshop and workshop participants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useful to run materials (either all of them, the outline or selected modules) past different stakeholders e.g. the client, selected participants, colleagues, other pe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people are apprehensive about showing their training materials to others, but as that is exactly what one will do when they are used in a training event, then it is much better to do this before hand, with a limited number of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never to late for iterative changes and improvemen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ation, contextualisation and iterative changes are all important and essential but it is also important to call a halt to changes at some point. There becomes a point when the effort taken to make additional changes and improvements does not meet the improvements. At this point, the materials should be fin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dditional materials will be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cipants manual, speakers presentations (with notes?), exercises, handouts, case studies, etc. These will all need preparing ready for use in the actual training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ll of the materials need to be given a common identity and “brand”? Is this possible with IPR considerations? If it is then it does look more professional if participants are provided with a visually impressive set of training materials. It can inspire confidence in the training and trai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no amount of branding will hide weak materials and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 – should materials be bound, included in a folder, provided on CD? Training participants do like a nice manual or workbook. But too many materials can confuse the content and particip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note paper and spaces for making no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A54655-2710-4B1D-BDBA-D1FAC4C6B2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23865-EEB5-4E43-A9F5-8A4E56C860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864B3F-4A3F-4099-B3A5-BDE517320E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A9B9B9-1D4F-44C3-80AE-E1997203A0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25306-F369-46E6-861E-690ABE5505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E72F8-EB32-4CB3-A758-E22F249009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2C4EC8-0942-496B-AE81-A07406D39F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E3E922-9EF7-4EAC-8AD9-75886416F7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326B32B-D2BE-467E-AB72-920CFB8B34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AADA9-1664-4AE2-89AC-CAB6132ED5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A5E45-7480-4A1A-838F-1CEB269FE2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6549E-19A5-4713-9E82-7FBDE548D5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57C7-0EF2-49EB-88D2-D644AFD9C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and developing pre-existing training materials</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development process</a:t>
            </a:r>
            <a:endParaRPr b="0" lang="en-US" sz="4400" spc="-1" strike="noStrike">
              <a:solidFill>
                <a:srgbClr val="000000"/>
              </a:solidFill>
              <a:latin typeface="Arial"/>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training needs and programme outline have been developed, th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suitable content (in-house, online, library, books, journal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and ascertain appropriateness of cont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permission for use/adap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and contextualise for your training session and participa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your materials and training desig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se materials and prepare for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ng and adapting existing training materials is a valid and sensible o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ous excellent resources and training material authors exist onlin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be located (using advanced searching techniques), evaluated and adapted prior to us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essential to contextualise any materials before they are us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ust be adapted to the participants needs, situation, experience and understanding in order to maximise their impac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materials adaptation and editing phase it is important to validate the materials through interaction with key stakeholders, esp. potential particip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the main phases and processes associated with adapting and developing existing training materials. Includ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and assessing suitable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lines on adapting existing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of contextualising materials, the problems associated with using inappropriate materials (i.e. not contextualising them correct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le of interaction and feedback with potential event participa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gramme and content development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is unit participants will be able t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aspects of identifying, assessing and adapting suitable training event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importance of appropriate contextualisation of materials and the problems associated with using inappropriately contextualised materi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requirements and importance of training content to be relevant to trainees' professional or personal contex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key stages for interaction with potential event participants during this planning ph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training programme and content development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ng suitable content</a:t>
            </a:r>
            <a:endParaRPr b="0" lang="en-US" sz="4400" spc="-1" strike="noStrike">
              <a:solidFill>
                <a:srgbClr val="000000"/>
              </a:solidFill>
              <a:latin typeface="Arial"/>
            </a:endParaRPr>
          </a:p>
        </p:txBody>
      </p:sp>
      <p:sp>
        <p:nvSpPr>
          <p:cNvPr id="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assess suitable content (pre-existing materia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ing the Inter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adopt appropriate advanced searching techniques, as there is almost certainly content out there that would be usefu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starting places e.g ItrainOnlin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cy and validity; how reliable are the materi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ility; is the level right, are the materials open for you to use and adap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existing content</a:t>
            </a:r>
            <a:endParaRPr b="0" lang="en-US" sz="4400" spc="-1" strike="noStrike">
              <a:solidFill>
                <a:srgbClr val="000000"/>
              </a:solidFill>
              <a:latin typeface="Arial"/>
            </a:endParaRPr>
          </a:p>
        </p:txBody>
      </p:sp>
      <p:sp>
        <p:nvSpPr>
          <p:cNvPr id="6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gender, participants' backgrounds (professional, person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R consid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clear copyright or acceptable use statement provid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 doubt check with the author of the materials and get confirmation in writing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The importance of contextualisation</a:t>
            </a:r>
            <a:endParaRPr b="0" lang="en-US" sz="3700" spc="-1" strike="noStrike">
              <a:solidFill>
                <a:srgbClr val="000000"/>
              </a:solidFill>
              <a:latin typeface="Arial"/>
            </a:endParaRPr>
          </a:p>
        </p:txBody>
      </p:sp>
      <p:sp>
        <p:nvSpPr>
          <p:cNvPr id="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ortance of contextualising materials, the problems associated with using inappropriate materials (i.e. not contextualising them cor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he training content relevant to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learning principles remi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principles</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know why they need to learn someth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learn experientia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pproach learning as problem-solv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learn best when the topic is of immediat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view learning is an active process in the construction of meaning</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ar and I forget - I see and I remember - I do and I under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and finalise content</a:t>
            </a:r>
            <a:endParaRPr b="0" lang="en-US" sz="4000" spc="-1" strike="noStrike">
              <a:solidFill>
                <a:srgbClr val="000000"/>
              </a:solidFill>
              <a:latin typeface="Arial"/>
            </a:endParaRPr>
          </a:p>
        </p:txBody>
      </p:sp>
      <p:sp>
        <p:nvSpPr>
          <p:cNvPr id="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important to validate the materials and training design as they develo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eems right to you may be missing somet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nger of being caught up in too much detai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the draft programme, materials and cont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lient, with participants, with colleagues, with peer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 with potential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feedback from potential particip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ise content</a:t>
            </a:r>
            <a:endParaRPr b="0" lang="en-US" sz="4400" spc="-1" strike="noStrike">
              <a:solidFill>
                <a:srgbClr val="000000"/>
              </a:solidFill>
              <a:latin typeface="Arial"/>
            </a:endParaRPr>
          </a:p>
        </p:txBody>
      </p:sp>
      <p:sp>
        <p:nvSpPr>
          <p:cNvPr id="6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sing materials – time to call a halt to edits and chang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resourc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presentations, exercises, hand-outs, case stud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image and I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ll materials look similar, e.g. corporate identity for training material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Folder (incl. manuals, hand-out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3-16T09:22:50Z</dcterms:modified>
  <cp:revision>13</cp:revision>
  <dc:subject/>
  <dc:title>Planning a training event</dc:title>
</cp:coreProperties>
</file>