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8" name="PlaceHolder 4"/>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BDD55-D75F-42A4-B934-E5075DDB9A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 name="PlaceHolder 5"/>
          <p:cNvSpPr>
            <a:spLocks noGrp="1"/>
          </p:cNvSpPr>
          <p:nvPr>
            <p:ph type="hdr"/>
          </p:nvPr>
        </p:nvSpPr>
        <p:spPr>
          <a:xfrm>
            <a:off x="-360" y="0"/>
            <a:ext cx="670572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ASP Workshop title: Module #</a:t>
            </a:r>
            <a:endParaRPr b="0" lang="en-US" sz="800" spc="-1" strike="noStrike">
              <a:solidFill>
                <a:srgbClr val="000000"/>
              </a:solidFill>
              <a:latin typeface="Times New Roman"/>
            </a:endParaRPr>
          </a:p>
        </p:txBody>
      </p:sp>
      <p:sp>
        <p:nvSpPr>
          <p:cNvPr id="50" name="PlaceHolder 6"/>
          <p:cNvSpPr>
            <a:spLocks noGrp="1"/>
          </p:cNvSpPr>
          <p:nvPr>
            <p:ph type="ftr" idx="4"/>
          </p:nvPr>
        </p:nvSpPr>
        <p:spPr>
          <a:xfrm>
            <a:off x="-360" y="8763120"/>
            <a:ext cx="609588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opyright INASP – see: http://inasp.info/training/training-materials-copyright.html for more details.</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information on these areas is available online and from other sources that can help at every stag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is unit, participants should be able to do all of the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needs training and what are their training needs are the key questions. The answers to these are </a:t>
            </a:r>
            <a:r>
              <a:rPr b="1" lang="en-US" sz="1000" spc="-1" strike="noStrike">
                <a:solidFill>
                  <a:srgbClr val="000000"/>
                </a:solidFill>
                <a:latin typeface="Arial"/>
              </a:rPr>
              <a:t>extremely </a:t>
            </a:r>
            <a:r>
              <a:rPr b="0" lang="en-US" sz="1000" spc="-1" strike="noStrike">
                <a:solidFill>
                  <a:srgbClr val="000000"/>
                </a:solidFill>
                <a:latin typeface="Arial"/>
              </a:rPr>
              <a:t>important for successful tr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these questions that the next couple of exercises will examine and look at in more detail.</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hrough these important questions with particip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answer these questions, within the context of the content of this complete workshop e.g. if the workshop has been about “using the Internet”, then what is the change that the workshop content is hoping to achieve? That guides the need and areas of tr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change are we trying to achie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is point you should introduce the accompanying exercise: “Train the trainer: Planning training: selection of participants”. Introduce the exercise by going through the instructions in the exercise document. Make sure that people are happy with their understanding of the exercise, its structure and its objectives. Then break people into their groups (randomly is probably b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earning objectives should be SMART – but shouldn’t everyt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 Specif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Measur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chiev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Relev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Tim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making learning objectives SMART is actually quite difficult. Even so, it is a very useful process, as trying to make learning objectives SMART really does help ensure that they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s of learning objectives – check the ones for this un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s: are measurable criteria – how often, how well, how many, how much, how will we know it is okay, combination of the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itions: what is given, or not given, what are the variables, combination of the abov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730C81-E9C1-4ABD-AB7B-673411A4DA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D11A65-B8C3-457D-AC47-4D8EB0D1D9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A16259-3026-41B9-B884-6FD92B6719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50E9A0-C290-47C6-97A6-1F8CEBFEB7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49054-28D7-4C3A-868A-B73723314D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B2B11-AC6C-4D25-9FCF-2DD1FBEBC6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C0475C-895E-4071-B672-F4482074A2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77715E-8E50-4CBE-91E6-5DCC9D38CA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A97F0A4-9A6F-4366-9286-FF44F8AE36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7ACDCB-5617-43DC-A376-F08DD61BF0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7AFF21-C7B1-4937-83B0-51FBBF3D56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64D118-62F0-4593-8DA7-8541A48AD9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7E33-F4A4-4AEF-80DB-B021B14417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5715000" y="609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5715000" y="60958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094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5800" y="60958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visit_itrain2" descr=""/>
          <p:cNvPicPr/>
          <p:nvPr/>
        </p:nvPicPr>
        <p:blipFill>
          <a:blip r:embed="rId2"/>
          <a:stretch/>
        </p:blipFill>
        <p:spPr>
          <a:xfrm>
            <a:off x="7543800" y="6164280"/>
            <a:ext cx="914400" cy="61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a training event</a:t>
            </a:r>
            <a:endParaRPr b="0" lang="en-US" sz="4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verview of why appropriate planning before a training event is essential for the event’s suc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s and logistics</a:t>
            </a:r>
            <a:endParaRPr b="0" lang="en-US" sz="4400" spc="-1" strike="noStrike">
              <a:solidFill>
                <a:srgbClr val="000000"/>
              </a:solidFill>
              <a:latin typeface="Arial"/>
            </a:endParaRPr>
          </a:p>
        </p:txBody>
      </p:sp>
      <p:sp>
        <p:nvSpPr>
          <p:cNvPr id="7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source availability, costs and logistics are essential considera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enue requirements and availabil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vitations and the invitation proce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chnology and resource requirem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freshments and lunches (v. importa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dministrative suppor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rly planning in all are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lexibility is important – not everything needs to be perfect to achieve the desired objecti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mplications for budget and logistical sup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ues for consideration</a:t>
            </a:r>
            <a:endParaRPr b="0" lang="en-US" sz="4400" spc="-1" strike="noStrike">
              <a:solidFill>
                <a:srgbClr val="000000"/>
              </a:solidFill>
              <a:latin typeface="Arial"/>
            </a:endParaRPr>
          </a:p>
        </p:txBody>
      </p:sp>
      <p:sp>
        <p:nvSpPr>
          <p:cNvPr id="7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 on relevant experien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raining have you been involved in that was particularly effective or ineffect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here the key characterist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feel adequate planning was a fac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experiences of planning training activities have you had or can you tap int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resources (including electronic resources) are available to support your plan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7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planning is essential for successful training activ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key stages to planning training that </a:t>
            </a:r>
            <a:r>
              <a:rPr b="1" lang="en-US" sz="2800" spc="-1" strike="noStrike">
                <a:solidFill>
                  <a:srgbClr val="000000"/>
                </a:solidFill>
                <a:latin typeface="Arial"/>
              </a:rPr>
              <a:t>must </a:t>
            </a:r>
            <a:r>
              <a:rPr b="0" lang="en-US" sz="2800" spc="-1" strike="noStrike">
                <a:solidFill>
                  <a:srgbClr val="000000"/>
                </a:solidFill>
                <a:latin typeface="Arial"/>
              </a:rPr>
              <a:t>be undertake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ing training participants, assessing their needs and designing training that matches the tw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training can save time and money later in the training proc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ence helps makes planning more effective and easier to underta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99840"/>
            <a:ext cx="7772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br>
              <a:rPr sz="4400"/>
            </a:br>
            <a:r>
              <a:rPr b="0" lang="en-US" sz="4400" spc="-1" strike="noStrike">
                <a:solidFill>
                  <a:srgbClr val="000000"/>
                </a:solidFill>
                <a:latin typeface="Arial"/>
              </a:rPr>
              <a:t>Any ques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objectives</a:t>
            </a:r>
            <a:endParaRPr b="0" lang="en-US" sz="4400" spc="-1" strike="noStrike">
              <a:solidFill>
                <a:srgbClr val="000000"/>
              </a:solidFill>
              <a:latin typeface="Arial"/>
            </a:endParaRPr>
          </a:p>
        </p:txBody>
      </p:sp>
      <p:sp>
        <p:nvSpPr>
          <p:cNvPr id="5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scribe the key aspects of successful participant identification</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ist the key aspects of the training needs assessment proces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scribe the process of creating SMART learning objective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dentify key stages of the content and draft programme development proces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Times New Roman"/>
              </a:rPr>
              <a:t>Describe costs and logistical considerations of the planning phas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t questions</a:t>
            </a:r>
            <a:endParaRPr b="0" lang="en-US" sz="4400" spc="-1" strike="noStrike">
              <a:solidFill>
                <a:srgbClr val="000000"/>
              </a:solidFill>
              <a:latin typeface="Arial"/>
            </a:endParaRPr>
          </a:p>
        </p:txBody>
      </p:sp>
      <p:sp>
        <p:nvSpPr>
          <p:cNvPr id="5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 questions </a:t>
            </a:r>
            <a:r>
              <a:rPr b="1" lang="en-US" sz="2800" spc="-1" strike="noStrike">
                <a:solidFill>
                  <a:srgbClr val="000000"/>
                </a:solidFill>
                <a:latin typeface="Arial"/>
              </a:rPr>
              <a:t>must</a:t>
            </a:r>
            <a:r>
              <a:rPr b="0" lang="en-US" sz="2800" spc="-1" strike="noStrike">
                <a:solidFill>
                  <a:srgbClr val="000000"/>
                </a:solidFill>
                <a:latin typeface="Arial"/>
              </a:rPr>
              <a:t> be asked before starting any training plann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needs trai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ir training nee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se are answered then we need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learning objectives to meet these nee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ining the training event cont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the training program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costs and early logistical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ying participants</a:t>
            </a:r>
            <a:endParaRPr b="0" lang="en-US" sz="4400" spc="-1" strike="noStrike">
              <a:solidFill>
                <a:srgbClr val="000000"/>
              </a:solidFill>
              <a:latin typeface="Arial"/>
            </a:endParaRPr>
          </a:p>
        </p:txBody>
      </p:sp>
      <p:sp>
        <p:nvSpPr>
          <p:cNvPr id="5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it importa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the wrong people is not effici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 people will optimise any impac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change are we trying to achiev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o are the most effective actors of that change or to help achieve that ch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we work with enablers of the desired change or targets of the ch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 different people during different phases of chan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ining needs assessment</a:t>
            </a:r>
            <a:endParaRPr b="0" lang="en-US" sz="4400" spc="-1" strike="noStrike">
              <a:solidFill>
                <a:srgbClr val="000000"/>
              </a:solidFill>
              <a:latin typeface="Arial"/>
            </a:endParaRPr>
          </a:p>
        </p:txBody>
      </p:sp>
      <p:sp>
        <p:nvSpPr>
          <p:cNvPr id="6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ep 1: Training in what are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formance needs assessment (PN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person/group expected to d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ell do they currently “perform”?</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difference between the two above is due to a deficiency of knowledge or skills, then training in these areas is the appropriate intervention</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ep 2: Gather background inform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out the traine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file and relevant backgroun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urrent level of knowledge and skil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pproaches to needs assessment</a:t>
            </a:r>
            <a:endParaRPr b="0" lang="en-US" sz="3800" spc="-1" strike="noStrike">
              <a:solidFill>
                <a:srgbClr val="000000"/>
              </a:solidFill>
              <a:latin typeface="Arial"/>
            </a:endParaRPr>
          </a:p>
        </p:txBody>
      </p:sp>
      <p:sp>
        <p:nvSpPr>
          <p:cNvPr id="6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signing a needs assessment strateg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eeds assessment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isting documentation, talking to target trainees, questionnaires, skills profiles, observation, etc.</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alysing needs assessm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people say and what they do are often differ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ver/under expect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ware of unrepresentative subjects and sample correc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MART Learning objectives</a:t>
            </a:r>
            <a:endParaRPr b="0" lang="en-US" sz="4400" spc="-1" strike="noStrike">
              <a:solidFill>
                <a:srgbClr val="000000"/>
              </a:solidFill>
              <a:latin typeface="Arial"/>
            </a:endParaRPr>
          </a:p>
        </p:txBody>
      </p:sp>
      <p:sp>
        <p:nvSpPr>
          <p:cNvPr id="6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objectives – what are the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skills, attitudes (KSAs) that the learner will know or be able to do after the training</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SMART – conside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behaviour of the learner that will be changed? Select an appropriate verb to describe thi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what conditions must the task be perform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what standards the task must be perform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iculty of making things SMA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 outline</a:t>
            </a:r>
            <a:endParaRPr b="0" lang="en-US" sz="4400" spc="-1" strike="noStrike">
              <a:solidFill>
                <a:srgbClr val="000000"/>
              </a:solidFill>
              <a:latin typeface="Arial"/>
            </a:endParaRPr>
          </a:p>
        </p:txBody>
      </p:sp>
      <p:sp>
        <p:nvSpPr>
          <p:cNvPr id="6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the content outline that matches the learning objecti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outlines and iterative developm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at the content outline meets participants expectations and require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ltation and iterative develop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 develop things in isola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map the content outline onto the outcomes of the needs assessment and learning objecti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ft programme development</a:t>
            </a:r>
            <a:endParaRPr b="0" lang="en-US" sz="4400" spc="-1" strike="noStrike">
              <a:solidFill>
                <a:srgbClr val="000000"/>
              </a:solidFill>
              <a:latin typeface="Arial"/>
            </a:endParaRPr>
          </a:p>
        </p:txBody>
      </p:sp>
      <p:sp>
        <p:nvSpPr>
          <p:cNvPr id="6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Content outline feeds into the draft programme</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How can the content be put together in the most effective way</a:t>
            </a:r>
            <a:endParaRPr b="0" lang="en-US" sz="27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member adult learning principles, available resources, opportunities and constraint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ory, ideals, practicalities and realities</a:t>
            </a:r>
            <a:endParaRPr b="0" lang="en-US" sz="24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Write learning objectives for individual sessions </a:t>
            </a:r>
            <a:endParaRPr b="0" lang="en-US" sz="27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they don't match the overall objectives then should the session be inclu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3:25:39Z</dcterms:created>
  <dc:creator>Martin Belcher</dc:creator>
  <dc:description/>
  <dc:language>en-US</dc:language>
  <cp:lastModifiedBy>Martin Belcher</cp:lastModifiedBy>
  <dcterms:modified xsi:type="dcterms:W3CDTF">2004-03-08T15:58:16Z</dcterms:modified>
  <cp:revision>8</cp:revision>
  <dc:subject/>
  <dc:title>Planning a training event</dc:title>
</cp:coreProperties>
</file>