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0099-D804-416B-AE9E-02A0904F2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information on these areas is available online and from other sources that can help at every stag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needs training and what are their training needs are the key questions. The answers to these are </a:t>
            </a:r>
            <a:r>
              <a:rPr b="1" lang="en-US" sz="1000" spc="-1" strike="noStrike">
                <a:solidFill>
                  <a:srgbClr val="000000"/>
                </a:solidFill>
                <a:latin typeface="Arial"/>
              </a:rPr>
              <a:t>extremely </a:t>
            </a:r>
            <a:r>
              <a:rPr b="0" lang="en-US" sz="1000" spc="-1" strike="noStrike">
                <a:solidFill>
                  <a:srgbClr val="000000"/>
                </a:solidFill>
                <a:latin typeface="Arial"/>
              </a:rPr>
              <a:t>important for successful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questions that the next couple of exercises will examine and look at in more detai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se important questions with particip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answer these questions, within the context of the content of this complete workshop e.g. if the workshop has been about “using the Internet”, then what is the change that the workshop content is hoping to achieve? That guides the need and areas of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you should introduce the accompanying exercise: “Train the trainer: Planning training: selection of participants”. Introduce the exercise by going through the instructions in the exercise document. Make sure that people are happy with their understanding of the exercise, its structure and its objectives. Then break people into their groups (randomly is probably b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rning objectives should be SMART – but shouldn’t every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Spe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chiev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Relev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Tim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making learning objectives SMART is actually quite difficult. Even so, it is a very useful process, as trying to make learning objectives SMART really does help ensure that they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s of learning objectives – check the ones for this un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are measurable criteria – how often, how well, how many, how much, how will we know it is okay, combination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itions: what is given, or not given, what are the variables, combination of the abov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0CC014-364D-4FA1-A5E3-62F2B934A9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63AC8-F562-462F-B3F9-CF4940D970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D32D8D-047D-4EC8-ACDC-4021ADC08F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1280A5-E58C-444A-8F45-39D6308DE5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FCE6A-8284-4721-8630-27E9F26A1A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1DC9B-3201-4231-8D56-A7CBFF25AE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BDE1C-FC3B-4964-8530-816C96EC60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F2F8CE-A721-40EB-97B3-B0C1E4D947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85DAEA0-6D58-4D9A-B590-09CE774065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860B1-B193-476C-B8E2-4A21315FDE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C9F03-7BBE-4679-B661-947EA03885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5936E-FC21-4687-B008-F2D854CF39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C161-56A2-46A5-8D8A-61078328F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y appropriate planning before a training event is essential for the event’s su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s and logistic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 availability, costs and logistics are essential consider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enue requirements and avail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itations and the invitation proc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ology and resource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freshments and lunches (v. import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ministrative suppo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rly planning in all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exibility is important – not everything needs to be perfect to achieve the desired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ications for budget and logistical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for consideration</a:t>
            </a:r>
            <a:endParaRPr b="0" lang="en-US" sz="4400" spc="-1" strike="noStrike">
              <a:solidFill>
                <a:srgbClr val="000000"/>
              </a:solidFill>
              <a:latin typeface="Arial"/>
            </a:endParaRPr>
          </a:p>
        </p:txBody>
      </p:sp>
      <p:sp>
        <p:nvSpPr>
          <p:cNvPr id="7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relevant experien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raining have you been involved in that was particularly effective or ineff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here the key characterist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feel adequate planning was a fa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periences of planning training activities have you had or can you tap in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ources (including electronic resources) are available to support your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planning is essential for successful training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key stages to planning training that </a:t>
            </a:r>
            <a:r>
              <a:rPr b="1" lang="en-US" sz="2800" spc="-1" strike="noStrike">
                <a:solidFill>
                  <a:srgbClr val="000000"/>
                </a:solidFill>
                <a:latin typeface="Arial"/>
              </a:rPr>
              <a:t>must </a:t>
            </a:r>
            <a:r>
              <a:rPr b="0" lang="en-US" sz="2800" spc="-1" strike="noStrike">
                <a:solidFill>
                  <a:srgbClr val="000000"/>
                </a:solidFill>
                <a:latin typeface="Arial"/>
              </a:rPr>
              <a:t>be undertak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raining participants, assessing their needs and designing training that matches the tw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training can save time and money later in the training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helps makes planning more effective and easier to underta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key aspects of successful participant identification</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st the key aspects of the training needs assess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process of creating SMART learning objectiv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key stages of the content and draft programme develop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Describe costs and logistical considerations of the planning phas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questions</a:t>
            </a:r>
            <a:endParaRPr b="0" lang="en-US" sz="4400" spc="-1" strike="noStrike">
              <a:solidFill>
                <a:srgbClr val="000000"/>
              </a:solidFill>
              <a:latin typeface="Arial"/>
            </a:endParaRPr>
          </a:p>
        </p:txBody>
      </p:sp>
      <p:sp>
        <p:nvSpPr>
          <p:cNvPr id="5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questions </a:t>
            </a:r>
            <a:r>
              <a:rPr b="1" lang="en-US" sz="2800" spc="-1" strike="noStrike">
                <a:solidFill>
                  <a:srgbClr val="000000"/>
                </a:solidFill>
                <a:latin typeface="Arial"/>
              </a:rPr>
              <a:t>must</a:t>
            </a:r>
            <a:r>
              <a:rPr b="0" lang="en-US" sz="2800" spc="-1" strike="noStrike">
                <a:solidFill>
                  <a:srgbClr val="000000"/>
                </a:solidFill>
                <a:latin typeface="Arial"/>
              </a:rPr>
              <a:t> be asked before starting any training plann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needs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ir training nee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se are answered then we ne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learning objectives to meet these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ing the training event cont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the training program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costs and early logistic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participants</a:t>
            </a:r>
            <a:endParaRPr b="0" lang="en-US" sz="4400" spc="-1" strike="noStrike">
              <a:solidFill>
                <a:srgbClr val="000000"/>
              </a:solidFill>
              <a:latin typeface="Arial"/>
            </a:endParaRPr>
          </a:p>
        </p:txBody>
      </p:sp>
      <p:sp>
        <p:nvSpPr>
          <p:cNvPr id="5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impor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the wrong people is not e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people will optimise any impac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are we trying to achie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o are the most effective actors of that change or to help achieve that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work with enablers of the desired change or targets of the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different people during different phases of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ing needs assessment</a:t>
            </a:r>
            <a:endParaRPr b="0" lang="en-US" sz="4400" spc="-1" strike="noStrike">
              <a:solidFill>
                <a:srgbClr val="000000"/>
              </a:solidFill>
              <a:latin typeface="Arial"/>
            </a:endParaRPr>
          </a:p>
        </p:txBody>
      </p:sp>
      <p:sp>
        <p:nvSpPr>
          <p:cNvPr id="6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1: Training in what are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ance needs assessment (PN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erson/group expected to d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ll do they currently “perform”?</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fference between the two above is due to a deficiency of knowledge or skills, then training in these areas is the appropriate interventio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2: Gather background inform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out the traine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file and relevant backgroun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rrent level of knowledge and ski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 to needs assessment</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igning a needs assessment strateg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eds assessment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ing documentation, talking to target trainees, questionnaires, skills profiles, observation,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ng needs assess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people say and what they do are often differ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under expec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ware of unrepresentative subjects and sample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RT Learning objectives</a:t>
            </a:r>
            <a:endParaRPr b="0" lang="en-US" sz="4400" spc="-1" strike="noStrike">
              <a:solidFill>
                <a:srgbClr val="000000"/>
              </a:solidFill>
              <a:latin typeface="Arial"/>
            </a:endParaRPr>
          </a:p>
        </p:txBody>
      </p:sp>
      <p:sp>
        <p:nvSpPr>
          <p:cNvPr id="6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objectives – what are the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skills, attitudes (KSAs) that the learner will know or be able to do after the train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SMART – consid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ehaviour of the learner that will be changed? Select an appropriate verb to describe th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what conditions must the task be perfor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at standards the task must be perform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iculty of making things SM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the content outline that matches the learning obj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s and iterative develop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the content outline meets participants expectations and requir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and iterative develop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develop things in isol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map the content outline onto the outcomes of the needs assessment and learning objec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programme development</a:t>
            </a:r>
            <a:endParaRPr b="0" lang="en-US" sz="4400" spc="-1" strike="noStrike">
              <a:solidFill>
                <a:srgbClr val="000000"/>
              </a:solidFill>
              <a:latin typeface="Arial"/>
            </a:endParaRPr>
          </a:p>
        </p:txBody>
      </p:sp>
      <p:sp>
        <p:nvSpPr>
          <p:cNvPr id="6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ontent outline feeds into the draft programme</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How can the content be put together in the most effective way</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ember adult learning principles, available resources, opportunities and constraint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ory, ideals, practicalities and realities</a:t>
            </a:r>
            <a:endParaRPr b="0" lang="en-US" sz="24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rite learning objectives for individual sessions </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y don't match the overall objectives then should the session be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08T15:58:16Z</dcterms:modified>
  <cp:revision>8</cp:revision>
  <dc:subject/>
  <dc:title>Planning a training event</dc:title>
</cp:coreProperties>
</file>