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dt" idx="2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25345-D109-40C2-AA75-D868703D9E1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hdr"/>
          </p:nvPr>
        </p:nvSpPr>
        <p:spPr>
          <a:xfrm>
            <a:off x="0" y="0"/>
            <a:ext cx="66470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ASP Workshop title: Module #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ftr" idx="4"/>
          </p:nvPr>
        </p:nvSpPr>
        <p:spPr>
          <a:xfrm>
            <a:off x="-360" y="9512280"/>
            <a:ext cx="604188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Copyright INASP – see: http://inasp.info/training/training-materials-copyright.html for more details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uld give participants 5 minutes in twos to discuss this. Should demonstrate that inappropriate training can lead  to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ustration, panic, boredom, confusion, et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83400-1BBB-4002-9BF2-B984288CDC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6243F-07D5-4A98-8E56-C2BEC38119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2072A-C02B-4760-A16B-529276CE93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409D8-5171-4C18-AE9D-75F1481C3D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16131-EED7-4A5A-8C23-CA7805882C7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871F3-85BA-49FE-BFDB-957296F6D5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A4592-6824-4C0D-A083-0B2EB32DF1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51E79-CC5B-427E-8BAC-6C2241C8CF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D3EFF-A7B8-4E13-8AA3-41B06FDCAA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63D01-7D83-461E-B74E-6B3A956F1D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E52ED-1944-43EA-A614-BF64C6A9FB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26361-FB4D-4E6C-9FD0-37713D16C0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601D1-0220-4CE6-84D5-E39EBE6D217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715000" y="609480"/>
            <a:ext cx="274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715000" y="6095880"/>
            <a:ext cx="274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609480"/>
            <a:ext cx="502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5880"/>
            <a:ext cx="502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visit_itrain2" descr=""/>
          <p:cNvPicPr/>
          <p:nvPr/>
        </p:nvPicPr>
        <p:blipFill>
          <a:blip r:embed="rId2"/>
          <a:stretch/>
        </p:blipFill>
        <p:spPr>
          <a:xfrm>
            <a:off x="7543800" y="6164280"/>
            <a:ext cx="914400" cy="617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essing Training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295280" y="312408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sed on materials develop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Centre for Development and Population Activ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www.cedpa.org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you think this exercise might be useful to you when you design a training sess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you feel confident about conducting a needs assessment for workshops in the futu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part do you think will be most difficul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part do you think will be the most useful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rther read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rief overview of training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ww.lboro.ac.uk/well/resources/technical-briefs/53-training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ducting a training needs assessment by Jeanette Sw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ww.ammxi.com/amx_mi30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manual for media trainers: a learner centred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ww.unesco.org/webworld/publications/media_trainers/manual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the end of this unit participants will be able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how needs assessment helps in development of a training e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 the steps for conducting a needs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the training needs of a specific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es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you ever been in a situation 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acilitator spent a lot of time covering material that you already kne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aterial was far more in-depth or complicated than you nee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id this make you fee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id affect the group’s moral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43000" y="1523520"/>
            <a:ext cx="6400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, it is important to carry out a training needs assessment before undertaking trai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 training the right solu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can help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knowled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individuals to motivate and develop attitu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7960" y="17521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can’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come lack of appropriate equipment or fac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problems caused by poor policies or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olutions to problems are like keys in locks; they don’t work if they don’t fit, and if </a:t>
            </a: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olutions aren’t  the right ones, the problem doesn’t get solved</a:t>
            </a: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3600"/>
            </a:br>
            <a:br>
              <a:rPr sz="1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Mager and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pe 197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could you assess need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naires/surve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vi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ult key stakehol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e records and re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job 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lit into groups of 3 - 5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the case study + task 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1: 15 minu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2: 15 minu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 back: 15 min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le group to identify and agree priority training areas for the case study train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le group to identify the steps taken to determine training needs in this exerc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lection on case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it easy or difficult to determine training nee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might have made it easier to identify nee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needs, if any, cannot be met by train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22:35:45Z</dcterms:created>
  <dc:creator>Martin Belcher</dc:creator>
  <dc:description/>
  <dc:language>en-US</dc:language>
  <cp:lastModifiedBy>Martin Belcher</cp:lastModifiedBy>
  <dcterms:modified xsi:type="dcterms:W3CDTF">2004-02-13T07:18:47Z</dcterms:modified>
  <cp:revision>23</cp:revision>
  <dc:subject/>
  <dc:title>ITO Train the trainer unit</dc:title>
</cp:coreProperties>
</file>