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E021-46BF-4AC0-9254-0D3EF1EB9D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hdr"/>
          </p:nvPr>
        </p:nvSpPr>
        <p:spPr>
          <a:xfrm>
            <a:off x="0" y="0"/>
            <a:ext cx="66470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ASP Workshop title: Module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ftr" idx="4"/>
          </p:nvPr>
        </p:nvSpPr>
        <p:spPr>
          <a:xfrm>
            <a:off x="-360" y="9512280"/>
            <a:ext cx="60418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Copyright INASP – see: http://inasp.info/training/training-materials-copyright.html for more detail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uld give participants 5 minutes in twos to discuss this. Should demonstrate that inappropriate training can lead  to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ustration, panic, boredom, confusion,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F9C2-C8AE-4EB4-AA8C-58500F250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EE3A-1C01-4BB5-A13C-8B30912AF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2F7ED-A346-4879-9145-B30F87C03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AF18-9D9E-4A81-B0AB-D5BD60E1B3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16AFD-0A89-4184-96CC-8024490880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6CFBF-D25E-4494-B782-B70DB8C7E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F5CDD-8BBF-4369-8303-D6E900FAC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911F-6B5B-4ED5-BEDB-D543D6F88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8C73A-FC9A-4E2F-BFB2-E3C8AEEEE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D0AD-C871-4345-A08C-22CD52EDC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6871-6C00-4A42-9FA8-85DEF0137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BDF16-A805-4760-A5B2-C275B4677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8014-5658-418D-8715-DA87494481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715000" y="6094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715000" y="60958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0948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588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visit_itrain2" descr=""/>
          <p:cNvPicPr/>
          <p:nvPr/>
        </p:nvPicPr>
        <p:blipFill>
          <a:blip r:embed="rId2"/>
          <a:stretch/>
        </p:blipFill>
        <p:spPr>
          <a:xfrm>
            <a:off x="7543800" y="6164280"/>
            <a:ext cx="914400" cy="61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ing Training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95280" y="31240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 materials develop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entre for Development and Population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www.cedpa.or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think this exercise might be useful to you when you design a training ses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feel confident about conducting a needs assessment for workshops in the fu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art do you think will be most difficul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art do you think will be the most usefu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read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rief overview of train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ww.lboro.ac.uk/well/resources/technical-briefs/53-training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ducting a training needs assessment by Jeanette Sw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ww.ammxi.com/amx_mi30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manual for media trainers: a learner centr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ww.unesco.org/webworld/publications/media_trainers/manual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end of this unit participants will be abl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needs assessment helps in development of a training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e steps for conducting a needs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training needs of a specific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ever been in a situation 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cilitator spent a lot of time covering material that you already kne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terial was far more in-depth or complicated than you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is make you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affect the group’s mora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43000" y="15235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, it is important to carry out a training needs assessment before undertaking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raining the right sol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can help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individuals to motivate and develop att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ca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e lack of appropriate equipment or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problems caused by poor policies or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olutions to problems are like keys in locks; they don’t work if they don’t fit, and if 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olutions aren’t  the right ones, the problem doesn’t get solved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3600"/>
            </a:b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ager and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pe 19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ould you assess nee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naires/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lt key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 records and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job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into groups of 3 - 5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case study + task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1: 15 min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2: 15 min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back: 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 group to identify and agree priority training areas for the case study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 group to identify the steps taken to determine training needs in this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 on 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it easy or difficult to determine training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ight have made it easier to identify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needs, if any, cannot be met by tra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22:35:45Z</dcterms:created>
  <dc:creator>Martin Belcher</dc:creator>
  <dc:description/>
  <dc:language>en-US</dc:language>
  <cp:lastModifiedBy>Martin Belcher</cp:lastModifiedBy>
  <dcterms:modified xsi:type="dcterms:W3CDTF">2004-02-13T07:18:47Z</dcterms:modified>
  <cp:revision>23</cp:revision>
  <dc:subject/>
  <dc:title>ITO Train the trainer unit</dc:title>
</cp:coreProperties>
</file>