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3809-DAE8-433A-84BD-69BBBD4F04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6647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ASP Workshop title: Module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ftr" idx="4"/>
          </p:nvPr>
        </p:nvSpPr>
        <p:spPr>
          <a:xfrm>
            <a:off x="-360" y="9512280"/>
            <a:ext cx="60418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opyright INASP – see: http://inasp.info/training/training-materials-copyright.html for more detai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ld give participants 5 minutes in twos to discuss this. Should demonstrate that inappropriate training can lead 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ustration, panic, boredom, confusion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9614-3F47-4BA4-AF24-8CE9E9247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B9D9-0A92-403E-A379-CCA2D9372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6D32-D408-47ED-8970-448ED6B4F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0F18-9BCA-4279-8D12-44439100B6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FB32-331A-4D2B-9281-7144B4CC6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821E-9B07-436E-8894-56BCEDAAD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1AF2-BBF6-4AF5-99A5-6D36A0A13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146E-73A1-476B-B8D4-67FE294A3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4B0D-5DBB-4DDF-9D75-2816E1036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0E80-6EEB-4643-93D4-FE4B1235E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B0B9-9ABD-48C3-B141-9D9882237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6D29-FD50-49B0-A7FB-F106F8284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9878-E84C-4ECF-BAD0-6D1F19E993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15000" y="6095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5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visit_itrain2" descr=""/>
          <p:cNvPicPr/>
          <p:nvPr/>
        </p:nvPicPr>
        <p:blipFill>
          <a:blip r:embed="rId2"/>
          <a:stretch/>
        </p:blipFill>
        <p:spPr>
          <a:xfrm>
            <a:off x="7543800" y="6164280"/>
            <a:ext cx="914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Training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materials develop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ntre for Development and Population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ww.cedpa.or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this exercise might be useful to you when you design a training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feel confident about conducting a needs assessment for workshops in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most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the most usefu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a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overview of trai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ww.lboro.ac.uk/well/resources/technical-briefs/53-training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ing a training needs assessment by Jeanette Sw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ammxi.com/amx_mi3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ual for media trainers: a learner cent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unesco.org/webworld/publications/media_trainers/manua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is unit participants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needs assessment helps in development of a train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steps for conducting a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raining needs of a specif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been in a situation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ilitator spent a lot of time covering material that you already k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erial was far more in-depth or complicated than you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affect the group’s mor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it is important to carry out a training needs assessment before undertaking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raining the right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help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individuals to motivate and develop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lack of appropriate 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blems caused by poor policies 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to problems are like keys in locks; they don’t work if they don’t fit, and if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aren’t  the right ones, the problem doesn’t get solved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ger an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e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uld you assess nee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s/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record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job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into groups of 3 -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case study + task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1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ack: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and agree priority training areas for the case study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the steps taken to determine training needs in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on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easy or difficult to determine trai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have made it easier to identify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eeds, if any, cannot be met by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22:35:45Z</dcterms:created>
  <dc:creator>Martin Belcher</dc:creator>
  <dc:description/>
  <dc:language>en-US</dc:language>
  <cp:lastModifiedBy>Martin Belcher</cp:lastModifiedBy>
  <dcterms:modified xsi:type="dcterms:W3CDTF">2004-02-13T07:18:47Z</dcterms:modified>
  <cp:revision>23</cp:revision>
  <dc:subject/>
  <dc:title>ITO Train the trainer unit</dc:title>
</cp:coreProperties>
</file>