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63BA-CBBD-4B32-9C9E-7251957E17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irst priority is to develop a </a:t>
            </a:r>
            <a:r>
              <a:rPr b="1" lang="en-US" sz="1000" spc="-1" strike="noStrike">
                <a:solidFill>
                  <a:srgbClr val="000000"/>
                </a:solidFill>
                <a:latin typeface="Arial"/>
                <a:ea typeface="Times New Roman"/>
              </a:rPr>
              <a:t>budget</a:t>
            </a:r>
            <a:r>
              <a:rPr b="0" lang="en-US" sz="1000" spc="-1" strike="noStrike">
                <a:solidFill>
                  <a:srgbClr val="000000"/>
                </a:solidFill>
                <a:latin typeface="Arial"/>
                <a:ea typeface="Times New Roman"/>
              </a:rPr>
              <a:t> for all of the </a:t>
            </a:r>
            <a:r>
              <a:rPr b="1" lang="en-US" sz="1000" spc="-1" strike="noStrike">
                <a:solidFill>
                  <a:srgbClr val="000000"/>
                </a:solidFill>
                <a:latin typeface="Arial"/>
                <a:ea typeface="Times New Roman"/>
              </a:rPr>
              <a:t>training costs</a:t>
            </a:r>
            <a:r>
              <a:rPr b="0" lang="en-US" sz="1000" spc="-1" strike="noStrike">
                <a:solidFill>
                  <a:srgbClr val="000000"/>
                </a:solidFill>
                <a:latin typeface="Arial"/>
                <a:ea typeface="Times New Roman"/>
              </a:rPr>
              <a:t>—design, delivery, and evaluation. The budget may include costs for people’s time, facilities, travel, learners’ expenses, learning materials (including audiovisuals), equipment, and suppl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xt step is to </a:t>
            </a:r>
            <a:r>
              <a:rPr b="1" lang="en-US" sz="1000" spc="-1" strike="noStrike">
                <a:solidFill>
                  <a:srgbClr val="000000"/>
                </a:solidFill>
                <a:latin typeface="Arial"/>
                <a:ea typeface="Times New Roman"/>
              </a:rPr>
              <a:t>secure funding</a:t>
            </a:r>
            <a:r>
              <a:rPr b="0" lang="en-US" sz="1000" spc="-1" strike="noStrike">
                <a:solidFill>
                  <a:srgbClr val="000000"/>
                </a:solidFill>
                <a:latin typeface="Arial"/>
                <a:ea typeface="Times New Roman"/>
              </a:rPr>
              <a:t>. Sometimes the amount of money available for training will have been established first. In these cases, the budget (and therefore the logistical support) must be within the funding am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 a comprehensive plan that supports the training event. This may include identifying a team that can be tasked with individual responsibilities. Depending on the nature and or complexity of the training event, you may carry out these responsibilities as an individual or as a team.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end the course syllabus and learning objectives to participants before training - The manager must ensure that the learners and their supervisors receive information about the course (e.g., course syllabus, learning objectives, pre-course learning activities) before the course begi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rrange for and visit training facilities before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ke arrangements for accommodation, meals, and local transpor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rder training materials and required medi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nage financial arrangements, including learners’ per diems, facility fees, et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mmunicate and plann with the training delivery te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nitor and evaluate your own logistical and administrative support in a training process = crucial. It provides a mechanism for seeing what works and what does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Logistics and administration, like learning objectives, need to be constantly re-fined and revised. Remember: a ‘one-size fits all’ approach cannot be taken even if the workshop objectives are similar for multiple training events. Furthermore changes in technology and methodologies may also mean that logistical support, facilities and technology requirements may also change. It is therefore important to have a way to continually compare actual to desired support as well as determine any changes that may be needed. This information will also help identify changes needed in training support design or delive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llow up after training! It is an important, but often overlooked, aspect of training. The role of the training administrator may vary depending on the requirements of the client, however it is still an important responsibility to keep in min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 be discussed in more detail in next slides and in the content not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lass discussion to solicit ideas of what and why no.s 2 &amp; 3 are importa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ly review training phases with participants – perhaps sketch time line of phases for all to see and referenc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F0CDB-6BEC-447C-BC63-63A8883C93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7BDAE-B59D-4A33-9030-B99B7EF309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333479-79AE-4CBC-8E58-67ACC40E54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9AF068-452C-4DD0-B590-0A582C16DB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CFAB3-88F0-4D5E-ABFC-574C811B61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9B6AF-2B12-492B-8924-6D0C6AA4DE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4DAB5-7E4E-4192-8B04-2904D9B5F0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30D2F6-B501-4AD8-818A-6A33102ADC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D74C608-8404-42A5-9439-14C2F7BF07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DC271-3759-4A2C-9FA3-C2F076B8AE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41115-1557-45D8-BB30-29FB0AED31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C8170-FF05-4009-8EAC-CFF64C08E0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9D14-DD77-4300-B123-27003A7FF7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Logistical Support </a:t>
            </a:r>
            <a:br>
              <a:rPr sz="4400"/>
            </a:br>
            <a:r>
              <a:rPr b="0" lang="en-US" sz="3600" spc="-1" strike="noStrike">
                <a:solidFill>
                  <a:srgbClr val="000000"/>
                </a:solidFill>
                <a:latin typeface="Arial"/>
              </a:rPr>
              <a:t>to Training Events</a:t>
            </a:r>
            <a:endParaRPr b="0"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at support should be provided, when to provide it and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Event?</a:t>
            </a:r>
            <a:endParaRPr b="0" lang="en-US" sz="4400" spc="-1" strike="noStrike">
              <a:solidFill>
                <a:srgbClr val="000000"/>
              </a:solidFill>
              <a:latin typeface="Arial"/>
            </a:endParaRPr>
          </a:p>
        </p:txBody>
      </p:sp>
      <p:sp>
        <p:nvSpPr>
          <p:cNvPr id="70"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What are training admins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ssisting in eval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rawing up final financial overvie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determining follow-up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nsuring repor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Organising follow-up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ke any other activity…</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ke any other component in the training intervention, logistics and support requires proper planning!</a:t>
            </a:r>
            <a:endParaRPr b="0" lang="en-US" sz="3200" spc="-1" strike="noStrike">
              <a:solidFill>
                <a:srgbClr val="000000"/>
              </a:solidFill>
              <a:latin typeface="Arial"/>
            </a:endParaRPr>
          </a:p>
        </p:txBody>
      </p:sp>
      <p:sp>
        <p:nvSpPr>
          <p:cNvPr id="73" name=""/>
          <p:cNvSpPr/>
          <p:nvPr/>
        </p:nvSpPr>
        <p:spPr>
          <a:xfrm>
            <a:off x="762840" y="4038480"/>
            <a:ext cx="760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f you fail to plan, then you plan to f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manage resources</a:t>
            </a:r>
            <a:endParaRPr b="0" lang="en-US" sz="4400" spc="-1" strike="noStrike">
              <a:solidFill>
                <a:srgbClr val="000000"/>
              </a:solidFill>
              <a:latin typeface="Arial"/>
            </a:endParaRPr>
          </a:p>
        </p:txBody>
      </p:sp>
      <p:sp>
        <p:nvSpPr>
          <p:cNvPr id="75" name="PlaceHolder 2"/>
          <p:cNvSpPr>
            <a:spLocks noGrp="1"/>
          </p:cNvSpPr>
          <p:nvPr>
            <p:ph/>
          </p:nvPr>
        </p:nvSpPr>
        <p:spPr>
          <a:xfrm>
            <a:off x="609480" y="137124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raining framework with client to determine resource requi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budget that includes categories covering the necessary training activit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btain funds to support the budge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sure that processes are in place for proper management of the budget and disbursement of the fu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determine conten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should…</a:t>
            </a:r>
            <a:r>
              <a:rPr b="0" lang="en-US" sz="2800" spc="-1" strike="noStrike">
                <a:solidFill>
                  <a:srgbClr val="000000"/>
                </a:solidFill>
                <a:latin typeface="Arial"/>
              </a:rPr>
              <a:t>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information from potential learners and their supervisors as part of the course design proces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 subject matter experts who are proficient in the knowledge and skills to be learned and that match the required criteria;</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facilities and human resource requirements needed to support the identified training strategies  (e.g. activities, media and technology, etc.)</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 sensitive to the ways that issues concerning ethnic groups, gender, and organisational culture may affect training design in a specific location</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anage training logistics</a:t>
            </a:r>
            <a:endParaRPr b="0" lang="en-US" sz="4400" spc="-1" strike="noStrike">
              <a:solidFill>
                <a:srgbClr val="000000"/>
              </a:solidFill>
              <a:latin typeface="Arial"/>
            </a:endParaRPr>
          </a:p>
        </p:txBody>
      </p:sp>
      <p:sp>
        <p:nvSpPr>
          <p:cNvPr id="79"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checklist of all of the logistics for the training cours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ssign responsibility for each logistical activity &amp; ensure those responsible are aware of expect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 and follow a reasonable timeline of activities to guide yourself and oth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e clearly and timely with participants and other relevant persons (e.g. superviso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minister training needs assessment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onitor and evaluate</a:t>
            </a:r>
            <a:endParaRPr b="0" lang="en-US" sz="4400" spc="-1" strike="noStrike">
              <a:solidFill>
                <a:srgbClr val="000000"/>
              </a:solidFill>
              <a:latin typeface="Arial"/>
            </a:endParaRPr>
          </a:p>
        </p:txBody>
      </p:sp>
      <p:sp>
        <p:nvSpPr>
          <p:cNvPr id="81"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e minimum support standards that are requested by the trainer/client;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ools that adequately evaluate logistical support (e.g. site/facilities) and processes (e.g. invitation) to assess satisfaction with training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process and tools to monitor and evaluate performance on the job after training (e.g. follow-up &amp; checklist, respective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n action plan to address any problems related to logistics and support as identified during the training delivery process</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provide follow-up   </a:t>
            </a:r>
            <a:endParaRPr b="0" lang="en-US" sz="4400" spc="-1" strike="noStrike">
              <a:solidFill>
                <a:srgbClr val="000000"/>
              </a:solidFill>
              <a:latin typeface="Arial"/>
            </a:endParaRPr>
          </a:p>
        </p:txBody>
      </p:sp>
      <p:sp>
        <p:nvSpPr>
          <p:cNvPr id="83"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determine the type of follow-up required (e.g. observing, coaching, solving problems, gathering data about learner progress, identifying other performance gaps, etc.)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up by telephone or correspondence if site visits are not possible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volve supervisors and managers of client organisation in follow-up activiti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both the learner and the supervisor of the findings and recommendations resulting from the follow-up </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2667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85" name=""/>
          <p:cNvSpPr/>
          <p:nvPr/>
        </p:nvSpPr>
        <p:spPr>
          <a:xfrm>
            <a:off x="533520" y="1066680"/>
            <a:ext cx="8229600" cy="41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memb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oles and responsibilities of the training administrator may change according to the needs expressed by the client or the trainer. </a:t>
            </a:r>
            <a:br>
              <a:rPr sz="2800"/>
            </a:b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avoid assumptions be sure to check and validate what will be needed of you in this ro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3600" spc="-1" strike="noStrike">
                <a:solidFill>
                  <a:srgbClr val="000000"/>
                </a:solidFill>
                <a:latin typeface="Arial"/>
              </a:rPr>
              <a:t> Role </a:t>
            </a:r>
            <a:r>
              <a:rPr b="0" lang="en-US" sz="2800" spc="-1" strike="noStrike">
                <a:solidFill>
                  <a:srgbClr val="000000"/>
                </a:solidFill>
                <a:latin typeface="Arial"/>
              </a:rPr>
              <a:t>of the</a:t>
            </a:r>
            <a:r>
              <a:rPr b="0" lang="en-US" sz="3600" spc="-1" strike="noStrike">
                <a:solidFill>
                  <a:srgbClr val="000000"/>
                </a:solidFill>
                <a:latin typeface="Arial"/>
              </a:rPr>
              <a:t> Training Administrator</a:t>
            </a:r>
            <a:endParaRPr b="0" lang="en-US" sz="3600" spc="-1" strike="noStrike">
              <a:solidFill>
                <a:srgbClr val="000000"/>
              </a:solidFill>
              <a:latin typeface="Arial"/>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bjectives: describe how to plan and manage required administrative and logistical support.  </a:t>
            </a:r>
            <a:br>
              <a:rPr sz="2800"/>
            </a:br>
            <a:br>
              <a:rPr sz="2800"/>
            </a:br>
            <a:r>
              <a:rPr b="0" lang="en-US" sz="2800" spc="-1" strike="noStrike">
                <a:solidFill>
                  <a:srgbClr val="000000"/>
                </a:solidFill>
                <a:latin typeface="Arial"/>
                <a:ea typeface="Times New Roman"/>
              </a:rPr>
              <a:t>You will be able to:</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cuss roles and responsibilities within the training function and the key elements of a training administrator's role;</a:t>
            </a:r>
            <a:endParaRPr b="0" lang="en-US" sz="2800" spc="-1" strike="noStrike">
              <a:solidFill>
                <a:srgbClr val="000000"/>
              </a:solidFill>
              <a:latin typeface="Arial"/>
            </a:endParaRPr>
          </a:p>
          <a:p>
            <a:pPr marL="332640" indent="-3326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derstand the logistic and administrative needs in planning and organising training events as well as how and when to apply these during the phases of training;</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n experience</a:t>
            </a:r>
            <a:endParaRPr b="0" lang="en-US" sz="4400" spc="-1" strike="noStrike">
              <a:solidFill>
                <a:srgbClr val="000000"/>
              </a:solidFill>
              <a:latin typeface="Arial"/>
            </a:endParaRPr>
          </a:p>
        </p:txBody>
      </p:sp>
      <p:sp>
        <p:nvSpPr>
          <p:cNvPr id="56" name="PlaceHolder 2"/>
          <p:cNvSpPr>
            <a:spLocks noGrp="1"/>
          </p:cNvSpPr>
          <p:nvPr>
            <p:ph/>
          </p:nvPr>
        </p:nvSpPr>
        <p:spPr>
          <a:xfrm>
            <a:off x="609480" y="15998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good support necess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no (good) support is availabl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support is requi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tas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relationships betw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Training Administrat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other suppor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of the Training Admin</a:t>
            </a:r>
            <a:endParaRPr b="0" lang="en-US" sz="4000" spc="-1" strike="noStrike">
              <a:solidFill>
                <a:srgbClr val="000000"/>
              </a:solidFill>
              <a:latin typeface="Arial"/>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training administrator can be said to have three (3) main fun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ministrator of training and suppor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coordinator;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ternal consultant to the management of the organisation providing the training suppor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Coordinat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ages and monitors contractor relationshi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nables and evaluates line manager effectiveness in providing required services/sup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ordinates an organisation-wide implementation and delivery eff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l Consultan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dentifies skill development needs at the organisational lev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vises on staff development methods and best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valuates and improves the effectiveness of the organization’s training and development eff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dministrative and Logistical support</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ditionally, focus was primarily on the first of these roles: providing admin and logistical support to training events and train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a training administrator you will be required to support </a:t>
            </a:r>
            <a:r>
              <a:rPr b="1" i="1" lang="en-US" sz="2800" spc="-1" strike="noStrike">
                <a:solidFill>
                  <a:srgbClr val="000000"/>
                </a:solidFill>
                <a:latin typeface="Arial"/>
                <a:ea typeface="Times New Roman"/>
              </a:rPr>
              <a:t>all phases of the training event</a:t>
            </a:r>
            <a:r>
              <a:rPr b="0" lang="en-US" sz="2800" spc="-1" strike="noStrike">
                <a:solidFill>
                  <a:srgbClr val="000000"/>
                </a:solidFill>
                <a:latin typeface="Arial"/>
                <a:ea typeface="Times New Roman"/>
              </a:rPr>
              <a:t>. The level of support required will depend upon the complexity and length of the event, the number and types of stakeholders involved – e.g. clients (sponsors), training and participants, the types of objectiv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Event?</a:t>
            </a:r>
            <a:endParaRPr b="0" lang="en-US" sz="4400" spc="-1" strike="noStrike">
              <a:solidFill>
                <a:srgbClr val="000000"/>
              </a:solidFill>
              <a:latin typeface="Arial"/>
            </a:endParaRPr>
          </a:p>
        </p:txBody>
      </p:sp>
      <p:sp>
        <p:nvSpPr>
          <p:cNvPr id="66"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clients needs/requirement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essing scope of training on basis of the determined need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lanning how best to acquire these,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notifying participant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budgets &amp; funding,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support requirements (physical including technological, human, financial). </a:t>
            </a:r>
            <a:br>
              <a:rPr sz="2800"/>
            </a:b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ring-Event?</a:t>
            </a:r>
            <a:endParaRPr b="0" lang="en-US" sz="4400" spc="-1" strike="noStrike">
              <a:solidFill>
                <a:srgbClr val="000000"/>
              </a:solidFill>
              <a:latin typeface="Arial"/>
            </a:endParaRPr>
          </a:p>
        </p:txBody>
      </p:sp>
      <p:sp>
        <p:nvSpPr>
          <p:cNvPr id="68"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Briefing personnel on required tas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erforming site and facilities chec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ing with participant welcome and registra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technical support (troubleshooting, peripherals, network, et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administrative support (photocopying, telephone calls, participants’ issues, etc.)</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2-16T21:22:55Z</dcterms:modified>
  <cp:revision>27</cp:revision>
  <dc:subject/>
  <dc:title>Planning a training event</dc:title>
</cp:coreProperties>
</file>