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dt" idx="3"/>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3"/>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92" name="PlaceHolder 4"/>
          <p:cNvSpPr>
            <a:spLocks noGrp="1"/>
          </p:cNvSpPr>
          <p:nvPr>
            <p:ph type="sldNum" idx="4"/>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3B491-3F6E-44A9-8E32-EC76E9639E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 name="PlaceHolder 5"/>
          <p:cNvSpPr>
            <a:spLocks noGrp="1"/>
          </p:cNvSpPr>
          <p:nvPr>
            <p:ph type="hdr"/>
          </p:nvPr>
        </p:nvSpPr>
        <p:spPr>
          <a:xfrm>
            <a:off x="0" y="0"/>
            <a:ext cx="6647040" cy="579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NASP Workshop title: Module #</a:t>
            </a:r>
            <a:endParaRPr b="0" lang="en-US" sz="800" spc="-1" strike="noStrike">
              <a:solidFill>
                <a:srgbClr val="000000"/>
              </a:solidFill>
              <a:latin typeface="Times New Roman"/>
            </a:endParaRPr>
          </a:p>
        </p:txBody>
      </p:sp>
      <p:sp>
        <p:nvSpPr>
          <p:cNvPr id="94" name="PlaceHolder 6"/>
          <p:cNvSpPr>
            <a:spLocks noGrp="1"/>
          </p:cNvSpPr>
          <p:nvPr>
            <p:ph type="ftr" idx="5"/>
          </p:nvPr>
        </p:nvSpPr>
        <p:spPr>
          <a:xfrm>
            <a:off x="-360" y="9512280"/>
            <a:ext cx="6041880" cy="331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7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Arial"/>
              </a:rPr>
              <a:t>Copyright INASP – see: http://inasp.info/training/training-materials-copyright.html for more details.</a:t>
            </a:r>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17640" y="744480"/>
            <a:ext cx="4962600" cy="3722760"/>
          </a:xfrm>
          <a:prstGeom prst="rect">
            <a:avLst/>
          </a:prstGeom>
          <a:ln w="0">
            <a:noFill/>
          </a:ln>
        </p:spPr>
      </p:sp>
      <p:sp>
        <p:nvSpPr>
          <p:cNvPr id="12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pending on the speed of delivery and interaction with participants, this presentation takes around 20-30 minutes to delivery (with minimal interaction/discussion).</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17640" y="744480"/>
            <a:ext cx="4962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very important to implement training effectively, otherwise it can be counter productive e.g. if people participate in a bad/ineffective training activity then they may consider that the problem lay with the subject area and not the training format. When this comes to ICT issues, then it could lead people to dismiss the technology or application in question. Correcting that situation will double any training requireme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17640" y="744480"/>
            <a:ext cx="4962600" cy="3722760"/>
          </a:xfrm>
          <a:prstGeom prst="rect">
            <a:avLst/>
          </a:prstGeom>
          <a:ln w="0">
            <a:noFill/>
          </a:ln>
        </p:spPr>
      </p:sp>
      <p:sp>
        <p:nvSpPr>
          <p:cNvPr id="14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aluation and review has to be done to ensure success and guide changes that are need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g. we will be evaluating this workshop and looking at its </a:t>
            </a:r>
            <a:r>
              <a:rPr b="1" lang="en-US" sz="1000" spc="-1" strike="noStrike">
                <a:solidFill>
                  <a:srgbClr val="000000"/>
                </a:solidFill>
                <a:latin typeface="Arial"/>
              </a:rPr>
              <a:t>impac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f: e-resource training – impact can be assessed by usage patterns – you may wish to provide details of how e.g. training searching patterns of end users, before and after advanced searching training.</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stics are very important for successful training and they take a surprising amount of time and effort to do wel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like to provide some simple details for the organisation of this workshop – how much time it took to invite people, get them here, accommodation, travel issues, etc, et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possible to conduct a complete training programme with one person but there are distinct roles they need to consider and it is often better to split these between more than one pers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due to practicalities and constraints, it may be that we are limited to just one person, even so, thinking about all of the roles and their different aspects helps to make sure that nothing is missing.</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a trainer or someone involved in planning training activities, one needs to ask oneself the following ques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role do I have in the training proces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I lear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an be improved for next time – in terms of the process and peopl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can I improve my role in the process?</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 this workshop facilitator you should ask yourself these questions – you may want to provide a few simple answers for the participants of the workshop, as an indication of the learning process and how it can be beneficial. It might be worth thinking about the question and possible answers before you deliver this module though!</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17640" y="744480"/>
            <a:ext cx="4962600" cy="3722760"/>
          </a:xfrm>
          <a:prstGeom prst="rect">
            <a:avLst/>
          </a:prstGeom>
          <a:ln w="0">
            <a:noFill/>
          </a:ln>
        </p:spPr>
      </p:sp>
      <p:sp>
        <p:nvSpPr>
          <p:cNvPr id="15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ight like to highlight that this module and its materials are based on information that can be found a freely used online. In line with the “find and adapt” training materials from earlier.</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17640" y="744480"/>
            <a:ext cx="4962600" cy="3722760"/>
          </a:xfrm>
          <a:prstGeom prst="rect">
            <a:avLst/>
          </a:prstGeom>
          <a:ln w="0">
            <a:noFill/>
          </a:ln>
        </p:spPr>
      </p:sp>
      <p:sp>
        <p:nvSpPr>
          <p:cNvPr id="13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s important to define what “training” is and in this case, what constitutes an “event”, as this helps focus our approac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ining is primarily associated with the learning of new skills, knowledge or approaches i.e. it is CHANG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CHANGE are we trying to achieve?</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ffective training of adults we need to consider basic adult learning principl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detailed here (above) are how adults learn best. We all have slightly different preferences that fit some of these areas and issues outlined abo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hich to ask participants about what they have liked so far about this workshop? Did it meet those principles outlined above? Has there been something that went very well with participants? If so then you may be able to link it to some of the principles outlined here. If something has gone badly, then you may also like to link it to a lack of connection to the principles above. Hopefully, nothing has gone too badly thoug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is a </a:t>
            </a:r>
            <a:r>
              <a:rPr b="1" lang="en-US" sz="1000" spc="-1" strike="noStrike">
                <a:solidFill>
                  <a:srgbClr val="000000"/>
                </a:solidFill>
                <a:latin typeface="Arial"/>
              </a:rPr>
              <a:t>great</a:t>
            </a:r>
            <a:r>
              <a:rPr b="0" lang="en-US" sz="1000" spc="-1" strike="noStrike">
                <a:solidFill>
                  <a:srgbClr val="000000"/>
                </a:solidFill>
                <a:latin typeface="Arial"/>
              </a:rPr>
              <a:t> deal of information that could be covered on adult learning principles but this slide provides a short summary of those that are of immediate importance here. The detail isn’t important in this context, just the overview.</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17640" y="744480"/>
            <a:ext cx="4962600" cy="3722760"/>
          </a:xfrm>
          <a:prstGeom prst="rect">
            <a:avLst/>
          </a:prstGeom>
          <a:ln w="0">
            <a:noFill/>
          </a:ln>
        </p:spPr>
      </p:sp>
      <p:sp>
        <p:nvSpPr>
          <p:cNvPr id="13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ent outline of this presentation/module – you may wish to move quickly through this, as it is covered in more detail in the rest of the presentation.</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17640" y="744480"/>
            <a:ext cx="4962600" cy="3722760"/>
          </a:xfrm>
          <a:prstGeom prst="rect">
            <a:avLst/>
          </a:prstGeom>
          <a:ln w="0">
            <a:noFill/>
          </a:ln>
        </p:spPr>
      </p:sp>
      <p:sp>
        <p:nvSpPr>
          <p:cNvPr id="136"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se are the learning objectives for this module – we should be able to go back to these are the end of the module and review them in a positive light – that we are able to do these th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item is a general theme in all training – that people delivering the training should always be learning themselves.</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5840" y="744480"/>
            <a:ext cx="496584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ess the importance of planning – </a:t>
            </a:r>
            <a:r>
              <a:rPr b="1" lang="en-US" sz="1000" spc="-1" strike="noStrike">
                <a:solidFill>
                  <a:srgbClr val="000000"/>
                </a:solidFill>
                <a:latin typeface="Arial"/>
              </a:rPr>
              <a:t>without adequate planning</a:t>
            </a:r>
            <a:r>
              <a:rPr b="0" lang="en-US" sz="1000" spc="-1" strike="noStrike">
                <a:solidFill>
                  <a:srgbClr val="000000"/>
                </a:solidFill>
                <a:latin typeface="Arial"/>
              </a:rPr>
              <a:t>, then a training event is much more likely to </a:t>
            </a:r>
            <a:r>
              <a:rPr b="1" lang="en-US" sz="1000" spc="-1" strike="noStrike">
                <a:solidFill>
                  <a:srgbClr val="000000"/>
                </a:solidFill>
                <a:latin typeface="Arial"/>
              </a:rPr>
              <a:t>not</a:t>
            </a:r>
            <a:r>
              <a:rPr b="0" lang="en-US" sz="1000" spc="-1" strike="noStrike">
                <a:solidFill>
                  <a:srgbClr val="000000"/>
                </a:solidFill>
                <a:latin typeface="Arial"/>
              </a:rPr>
              <a:t> </a:t>
            </a:r>
            <a:r>
              <a:rPr b="1" lang="en-US" sz="1000" spc="-1" strike="noStrike">
                <a:solidFill>
                  <a:srgbClr val="000000"/>
                </a:solidFill>
                <a:latin typeface="Arial"/>
              </a:rPr>
              <a:t>achieve its desired aim</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identally, one of the key aspects of planning a training event is to clearly understand and define what the desired aim of the training is? What impact will it have? If that can’t be clearly defined then it might be that it is not needed or it is better to do something else.</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915840" y="744480"/>
            <a:ext cx="4965840" cy="3722760"/>
          </a:xfrm>
          <a:prstGeom prst="rect">
            <a:avLst/>
          </a:prstGeom>
          <a:ln w="0">
            <a:noFill/>
          </a:ln>
        </p:spPr>
      </p:sp>
      <p:sp>
        <p:nvSpPr>
          <p:cNvPr id="140"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key phases and processes within the planning and delivery of a training event are all related and should be cyclical in na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thing feeds into another and iterative changes are possible and likely at all stages of the proc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is these iterations during and between the cycles that lead to improved training and end impact of training event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7640" y="744480"/>
            <a:ext cx="4962600" cy="3722760"/>
          </a:xfrm>
          <a:prstGeom prst="rect">
            <a:avLst/>
          </a:prstGeom>
          <a:ln w="0">
            <a:noFill/>
          </a:ln>
        </p:spPr>
      </p:sp>
      <p:sp>
        <p:nvSpPr>
          <p:cNvPr id="142"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ll go into these in more details in later modules/content of the workshop. They are all important areas and none should be missed at the expense of another.</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 course it is possible to write training materials from scratch but it is difficult and time consuming. Considering the wealth of information and training resources available in this area online, then why not locate, adapt and use existing training materials and con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want to refer to earlier workshop content – that it was based on content from the Internet or that the content of this module could be the basis for training. Its just a question of finding the information you need, getting permission to adapt and reuse it and then adapting and using it.</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630397-E35B-4BDF-9D2C-7F981EB6AC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51034-B2CF-4ED7-9AC7-5FAD678AE8E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6D9D43-33D0-4E56-8064-48E2F7371B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CBA057-C517-4B4F-A9F6-6BD11CB478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C4FF99-2EED-4366-8E2C-E68F1E4D44A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28C466-F6BC-4518-BC36-832D7ED0AA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B6D4AF-77A4-4C8C-9919-D5324722AC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4B1CD84-11E8-4829-9312-B92106C1C6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DD713FD6-8026-48DF-9C92-B09C844C1D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FFA1C3B-F5A0-46C5-BC7E-0AE7185B95F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024FC2D-22CB-4754-BFB4-D00786E26AC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E3603-BBC6-4D7B-AA05-31272827A4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8B3047-36D3-47BA-BEF7-5D3EEB4787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51CC839-A8D6-4419-9286-755B1585DF6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176175E-6D84-40D4-86A2-4BEDC1DCA2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B872533-7EC5-4C6C-A8E8-A4E7961C35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A8CECFA-DCEA-498D-B61A-40E69830DD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9BAEA-A8B2-43C3-B802-BC6D8C9AD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CBD471-D2A9-46BD-8EF6-3E4E06C2545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18484A-8C44-4A4F-BD64-B8DF59E22C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2285640"/>
            <a:ext cx="77724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3CD8308-17D5-4961-BBF6-DD0C7DE6B6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EBA0F0-8C87-404D-BB14-4DE8652438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8EFA8-E774-43F9-AD71-FBA5EBEA8A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D3609B-CCED-4EEF-AA39-D34ADB184C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6948-D87D-427B-994F-0CC559A6C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 name="visit_itrain2" descr=""/>
          <p:cNvPicPr/>
          <p:nvPr/>
        </p:nvPicPr>
        <p:blipFill>
          <a:blip r:embed="rId2"/>
          <a:stretch/>
        </p:blipFill>
        <p:spPr>
          <a:xfrm>
            <a:off x="7543800" y="6164280"/>
            <a:ext cx="914400" cy="617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9D8EA-CE0B-4EC1-AFC4-DD0B76EC70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5715000" y="6094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5715000" y="609588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85800" y="6094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85800" y="609588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0" name="visit_itrain2" descr=""/>
          <p:cNvPicPr/>
          <p:nvPr/>
        </p:nvPicPr>
        <p:blipFill>
          <a:blip r:embed="rId2"/>
          <a:stretch/>
        </p:blipFill>
        <p:spPr>
          <a:xfrm>
            <a:off x="7543800" y="6164280"/>
            <a:ext cx="914400" cy="617400"/>
          </a:xfrm>
          <a:prstGeom prst="rect">
            <a:avLst/>
          </a:prstGeom>
          <a:ln w="0">
            <a:noFill/>
          </a:ln>
        </p:spPr>
      </p:pic>
      <p:sp>
        <p:nvSpPr>
          <p:cNvPr id="5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71240"/>
            <a:ext cx="777240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ain the trainer; administering and facilitating effective training events</a:t>
            </a:r>
            <a:endParaRPr b="0" lang="en-US" sz="4400" spc="-1" strike="noStrike">
              <a:solidFill>
                <a:srgbClr val="000000"/>
              </a:solidFill>
              <a:latin typeface="Arial"/>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guide for information and technology train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lementing a training event</a:t>
            </a:r>
            <a:endParaRPr b="0" lang="en-US" sz="4400" spc="-1" strike="noStrike">
              <a:solidFill>
                <a:srgbClr val="000000"/>
              </a:solidFill>
              <a:latin typeface="Arial"/>
            </a:endParaRPr>
          </a:p>
        </p:txBody>
      </p:sp>
      <p:sp>
        <p:nvSpPr>
          <p:cNvPr id="11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sure preparation of venu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a positive learning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ion and delivery of content and learning/skills develo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ify achievement of learning objec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event and achievements (objectives and expecta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the event positive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ion and review</a:t>
            </a:r>
            <a:endParaRPr b="0" lang="en-US" sz="4400" spc="-1" strike="noStrike">
              <a:solidFill>
                <a:srgbClr val="000000"/>
              </a:solidFill>
              <a:latin typeface="Arial"/>
            </a:endParaRPr>
          </a:p>
        </p:txBody>
      </p:sp>
      <p:sp>
        <p:nvSpPr>
          <p:cNvPr id="11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 and analyse workshop experienc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 content, administration, logistics, etc.</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 on experience from your perspectiv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to appropriate stakeholder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 </a:t>
            </a:r>
            <a:r>
              <a:rPr b="1" lang="en-US" sz="3200" spc="-1" strike="noStrike">
                <a:solidFill>
                  <a:srgbClr val="000000"/>
                </a:solidFill>
                <a:latin typeface="Arial"/>
              </a:rPr>
              <a:t>impact</a:t>
            </a:r>
            <a:r>
              <a:rPr b="0" lang="en-US" sz="3200" spc="-1" strike="noStrike">
                <a:solidFill>
                  <a:srgbClr val="000000"/>
                </a:solidFill>
                <a:latin typeface="Arial"/>
              </a:rPr>
              <a:t> of the training ev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tics</a:t>
            </a:r>
            <a:endParaRPr b="0" lang="en-US" sz="4400" spc="-1" strike="noStrike">
              <a:solidFill>
                <a:srgbClr val="000000"/>
              </a:solidFill>
              <a:latin typeface="Arial"/>
            </a:endParaRPr>
          </a:p>
        </p:txBody>
      </p:sp>
      <p:sp>
        <p:nvSpPr>
          <p:cNvPr id="11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nue, invitations, technology, budge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mediately pri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materials, person availa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 and logistical support availability, unforeseen resource requireme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workshop</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ing, document, financial issu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roles</a:t>
            </a:r>
            <a:endParaRPr b="0" lang="en-US" sz="4400" spc="-1" strike="noStrike">
              <a:solidFill>
                <a:srgbClr val="000000"/>
              </a:solidFill>
              <a:latin typeface="Arial"/>
            </a:endParaRPr>
          </a:p>
        </p:txBody>
      </p:sp>
      <p:sp>
        <p:nvSpPr>
          <p:cNvPr id="12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r more people may need to be involv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event “manag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er or facilita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 materials adapter or develop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 and logistical sup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suppor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sponsor or cli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Arial"/>
              </a:rPr>
              <a:t>Your role in the training process…</a:t>
            </a:r>
            <a:endParaRPr b="0" lang="en-US" sz="3900" spc="-1" strike="noStrike">
              <a:solidFill>
                <a:srgbClr val="000000"/>
              </a:solidFill>
              <a:latin typeface="Arial"/>
            </a:endParaRPr>
          </a:p>
        </p:txBody>
      </p:sp>
      <p:sp>
        <p:nvSpPr>
          <p:cNvPr id="12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strengths and weakn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experi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as for develo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k yourself:</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you lear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can be improved next ti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can I improve my role in th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12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o recognise the distinct phases and process of effective training even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dapting materials, implementation and delivery, evaluation and review, logistic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rol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r, trainer/facilitator, content developer, administrative and technical suppor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se where you can play a part and where you may need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raining of adults should be guided by adult learning princip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99840"/>
            <a:ext cx="777240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br>
              <a:rPr sz="4400"/>
            </a:br>
            <a:r>
              <a:rPr b="0" lang="en-US" sz="4400" spc="-1" strike="noStrike">
                <a:solidFill>
                  <a:srgbClr val="000000"/>
                </a:solidFill>
                <a:latin typeface="Arial"/>
              </a:rPr>
              <a:t>Any questions?</a:t>
            </a:r>
            <a:endParaRPr b="0" lang="en-US" sz="4400" spc="-1" strike="noStrike">
              <a:solidFill>
                <a:srgbClr val="000000"/>
              </a:solidFill>
              <a:latin typeface="Arial"/>
            </a:endParaRPr>
          </a:p>
        </p:txBody>
      </p:sp>
      <p:sp>
        <p:nvSpPr>
          <p:cNvPr id="126" name=""/>
          <p:cNvSpPr/>
          <p:nvPr/>
        </p:nvSpPr>
        <p:spPr>
          <a:xfrm>
            <a:off x="1066680" y="4876920"/>
            <a:ext cx="6858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ItrainOnline: “ICT training of trainers” material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ttp://www.itrainonline.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a:t>
            </a:r>
            <a:endParaRPr b="0" lang="en-US" sz="4400" spc="-1" strike="noStrike">
              <a:solidFill>
                <a:srgbClr val="000000"/>
              </a:solidFill>
              <a:latin typeface="Arial"/>
            </a:endParaRPr>
          </a:p>
        </p:txBody>
      </p:sp>
      <p:sp>
        <p:nvSpPr>
          <p:cNvPr id="98"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ining (ev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ctionary definition = activity leading to skilled behaviou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rpretation = skills development leading to a defined learning outcom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t = time boun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kills development, learning and knowled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ult learning principles</a:t>
            </a:r>
            <a:endParaRPr b="0" lang="en-US" sz="4400" spc="-1" strike="noStrike">
              <a:solidFill>
                <a:srgbClr val="000000"/>
              </a:solidFill>
              <a:latin typeface="Arial"/>
            </a:endParaRPr>
          </a:p>
        </p:txBody>
      </p:sp>
      <p:sp>
        <p:nvSpPr>
          <p:cNvPr id="10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know why they need to learn someth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need to learn experientiall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approach learning as problem-solving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s learn best when the topic is of immediate valu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ult view learning is an active process in the construction of meaning</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hear and I forget - I see and I remember - I do and I understa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nt outline</a:t>
            </a:r>
            <a:endParaRPr b="0" lang="en-US" sz="4400" spc="-1" strike="noStrike">
              <a:solidFill>
                <a:srgbClr val="000000"/>
              </a:solidFill>
              <a:latin typeface="Arial"/>
            </a:endParaRPr>
          </a:p>
        </p:txBody>
      </p:sp>
      <p:sp>
        <p:nvSpPr>
          <p:cNvPr id="10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view of the main phases and processes associated with planning and delivering training ev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nning, implementing, and evalua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stics and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ntroduction to the roles and activities invol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objectives</a:t>
            </a:r>
            <a:endParaRPr b="0" lang="en-US" sz="4400" spc="-1" strike="noStrike">
              <a:solidFill>
                <a:srgbClr val="000000"/>
              </a:solidFill>
              <a:latin typeface="Arial"/>
            </a:endParaRPr>
          </a:p>
        </p:txBody>
      </p:sp>
      <p:sp>
        <p:nvSpPr>
          <p:cNvPr id="104"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end of this unit participants will be able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st the key phases and processes involved in running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the roles associated with a training ev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reas for improving their role(s) in the training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y phases and processes </a:t>
            </a:r>
            <a:endParaRPr b="0" lang="en-US" sz="4400" spc="-1" strike="noStrike">
              <a:solidFill>
                <a:srgbClr val="000000"/>
              </a:solidFill>
              <a:latin typeface="Arial"/>
            </a:endParaRPr>
          </a:p>
        </p:txBody>
      </p:sp>
      <p:sp>
        <p:nvSpPr>
          <p:cNvPr id="106"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anning a training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raining materia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new materia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ation and delivery of actual ev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ion and revie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training-cycle" descr=""/>
          <p:cNvPicPr/>
          <p:nvPr/>
        </p:nvPicPr>
        <p:blipFill>
          <a:blip r:embed="rId1"/>
          <a:stretch/>
        </p:blipFill>
        <p:spPr>
          <a:xfrm>
            <a:off x="995400" y="1057320"/>
            <a:ext cx="7081920" cy="4581360"/>
          </a:xfrm>
          <a:prstGeom prst="rect">
            <a:avLst/>
          </a:prstGeom>
          <a:ln w="0">
            <a:noFill/>
          </a:ln>
        </p:spPr>
      </p:pic>
      <p:sp>
        <p:nvSpPr>
          <p:cNvPr id="108" name=""/>
          <p:cNvSpPr/>
          <p:nvPr/>
        </p:nvSpPr>
        <p:spPr>
          <a:xfrm>
            <a:off x="609480" y="6248520"/>
            <a:ext cx="5943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e copyright: RedR &lt;www.lboro.ac.uk/departments/cv/wedc/&g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ning a training event</a:t>
            </a:r>
            <a:endParaRPr b="0" lang="en-US" sz="4400" spc="-1" strike="noStrike">
              <a:solidFill>
                <a:srgbClr val="000000"/>
              </a:solidFill>
              <a:latin typeface="Arial"/>
            </a:endParaRPr>
          </a:p>
        </p:txBody>
      </p:sp>
      <p:sp>
        <p:nvSpPr>
          <p:cNvPr id="110"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needs tr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ir training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ing learning objectives to meet nee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lining the cont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fting the training program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and early logistic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apting training materials </a:t>
            </a:r>
            <a:endParaRPr b="0" lang="en-US" sz="4400" spc="-1" strike="noStrike">
              <a:solidFill>
                <a:srgbClr val="000000"/>
              </a:solidFill>
              <a:latin typeface="Arial"/>
            </a:endParaRPr>
          </a:p>
        </p:txBody>
      </p:sp>
      <p:sp>
        <p:nvSpPr>
          <p:cNvPr id="112"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cating and assessing suitable cont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content to your nee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rative development and interaction with planned participan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additional resources to support the training ev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and finalise the program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ise the training event cont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0:41:16Z</dcterms:created>
  <dc:creator>Martin Belcher</dc:creator>
  <dc:description/>
  <dc:language>en-US</dc:language>
  <cp:lastModifiedBy>Martin Belcher</cp:lastModifiedBy>
  <dcterms:modified xsi:type="dcterms:W3CDTF">2004-03-08T15:11:56Z</dcterms:modified>
  <cp:revision>13</cp:revision>
  <dc:subject/>
  <dc:title>Train the trainer; administering and facilitating effective training events</dc:title>
</cp:coreProperties>
</file>